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28B-E614-4404-A5F7-7B71AD56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4A1-7F68-41BC-B9C4-84055104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01AD8-1B9B-4D36-950A-C3429A67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3E141-E14F-461C-A33E-627AEF94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8C792-3E37-44A2-BE45-0841FC4A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930BC-7820-4E0F-85ED-62D56576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D6A95-0672-446B-BFFD-D77906FD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12CF9-9F9D-49E9-A3E9-48672097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EC3AD-7E56-4C90-9D36-8797ECCA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F4E3A-31E0-4F87-9A2C-8C5A6A28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9E360-EE01-458E-8D21-AD487A5A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6ABC6-2326-4B58-B4CD-753EABAE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7CB-15A4-4CE4-99F8-DD61149B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CCAA4-AD0A-429A-8728-65FE394E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F6EE7-468F-4630-A355-82230DC5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8F66D-8817-481F-8870-EC112DE8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FC299-6B84-43F8-A7B3-FEBAC0A7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996FD-4D1C-4AD4-90A9-A4FAF718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9D4D7-950B-437F-8A0A-1F169F50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FD247-CC18-4B3A-8FF6-0284899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63A84-B8EF-43F6-B32A-D50411B5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06E1D-EF2D-4C5B-AC3E-2DF1DAD1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D9277-196F-4872-98D2-E1FADB1E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DBC-2BFE-4765-A167-2796AC0C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C5954-9604-47BE-8392-EB2D46A2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42B90-EE9B-40F5-AACD-8AC3AF2C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96AE3-FFA2-4AE2-A71F-9A585635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FEB04-5A04-4F8D-8DA3-0A3DAFE7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F4835-FB8C-4E43-BDD1-3E59F540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23E4A-5367-4E6D-B673-5829BFB3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5DE8E-91F3-44A1-911D-5EE9ED90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B5197-C01F-4628-A0CE-536CB06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BB57C-D141-49F7-8493-D7FAE688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B7848-8C7E-44B9-AABE-DF46BC91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A8DC-30D8-4878-B9C5-A9845F6A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6478D-A847-4488-AD6F-F69CDEC5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9D0FD-4FCC-48ED-BB41-776AD705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7E018-B82B-428B-801B-74528ADA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23D5F-53C6-4DD4-88B8-7DD63A10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51502-2F07-404A-B115-A4978C03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570AE-EE40-474D-A159-D7BCA276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A647E-F75F-415A-9D90-0C2C6F1D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CF18A-3D62-4DE5-85A4-1A3E1A07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28375-B07E-4EF6-8ABF-D93A96A2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8D132-7487-450D-B015-2A78AEA6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B272-000D-4CAD-A1FC-E161113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83749-76AC-4572-8473-F677541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40B31-FFE5-439C-A6CC-D4B7CFD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9AC82-A897-4BE2-B692-568E3760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9510C-87BD-4F6A-9081-2B8B609A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B2ABD-BE4C-44A1-B5B1-D9EAD3F0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D3E25-CEAC-4927-B18A-507F15A0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2D86F-9CE7-4F9B-825B-F3C5F8FA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CA0FB-51D5-4CA3-B6D3-AF4B6A4C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0DBCA-728D-4340-A406-D5501A57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54A72-7F15-4758-B4BE-60F5767A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9601-19DD-481E-A3D3-B8E5CC32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2064E-C8D2-41A9-B655-31B1B608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307C8-9406-4308-8AEB-7A31FD8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B33B0-F4AE-4E34-A2D5-B0FE981F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33EFF-0414-4E3F-A8B1-F9318D22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F2C14-90B5-4F79-BA5B-71BC577C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E1B36-846B-4755-80AD-086AF967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CA7BD-1159-4A6B-A310-8650E6EA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03F4E-9856-47A3-B3FC-C74C8E8E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2C9B6-4960-444A-9359-47499BC8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C8A61-B1F1-4B42-9F8C-D25D3BD7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0565-802D-473F-8F56-36B01B8E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6A69E-56C7-4DC0-8606-14116CF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0E912-343A-4185-B774-C83DB0D4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B198C-3B14-4394-A034-9698604E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C345A-5E85-4292-9171-454C8E0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BF7EC-C74A-4F76-86DF-1CD33483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826F1-F948-42D7-883F-B36A3D68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17FAF-C217-486B-AAC9-DCBB0DEF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D2F57-EACC-456D-BDDD-0918453D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0F591-68F4-45B1-B9DC-F9138390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04614-FBD1-4148-9BED-19FF0DB7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8E11-92C6-4BE0-963A-774A5E0C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D4C38-FC8E-47D0-B3B9-4F4EAE2D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536AC-2423-4FD3-96A3-68C3AC25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01985-1AD3-4AF9-871F-A185D5AC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B16A9-7A50-459F-A4D4-EF4B68E2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5C33C-CB55-49B4-920B-4A71C193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9C505-8054-4B25-9725-F8C4E27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0410D-635A-456D-A104-90742C13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434EBD-EFB9-47D2-B1C7-B4F12252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6BFDF-3A16-48B7-88DF-0CE0CBEB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F30E5-A937-4126-BAB4-15F8AA8F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B248-9776-49DE-8B66-422F0FE8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632B8-A89D-46C8-ACD6-263C1B6C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9503D-FF3A-44D4-9120-461BFF5A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10031-A159-4C4F-8EB4-2A9C99A1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4F0EA-409F-406C-8251-6173E0F7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ADD51-92C6-435C-9CE3-ED97280D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762BF-EE59-41FA-BE4C-E33BF52A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F1D01-4A97-4EAA-8928-3D9465A0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99C8F-4BB5-4DEA-9933-A68913F9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8A334-5EDF-45AD-83D5-4A8BDBD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28A44-19F3-48DB-BBEB-FCB8FB87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9231-F024-4757-AA96-9098DBC0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15659-4DD1-4E9D-ABC7-46E3026F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531EF2-C2D1-4F43-AB08-7DCB3B3A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06F9F-3931-49EA-B7C1-1D38871E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01B2E7-DFFE-458F-8045-56611BA6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2178D-483A-4788-B37C-9A7AA7C2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E63380-A6E7-4827-9800-17037046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234F0-C66B-4CA9-B8E1-C371A7D1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CBBCA-9E64-4DB4-952E-3C86FBEA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9F561-08E3-4E65-969D-E2934289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32BBC-E57F-4171-AA2E-7D0408A8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6E8-463C-45C7-A845-126795E8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3AFD-FAE6-4DE9-87E9-0EFB5643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B986B-F61F-4B89-8DAB-22A163A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34EB55-B819-4F3D-BA6A-99E74FB4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8EAE35-984C-4768-BF6C-B7F67CC0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3FF20-D622-46AE-AB0A-85EDC833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FF791-89CB-4BA3-A27D-27DDA4D5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D514C-F67D-406B-B013-995CE014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C4850-E5F0-4177-A6AD-31C282B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9550B-02D2-4519-AE1C-AE68D5DF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A8A10-C4E5-44E2-A566-14C14EE1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EAA55-74A3-43C9-89F7-D9CB65A1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6BC3-24BD-44AF-9F28-F7FFB2F8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3D8E8-5480-46F0-B928-92F681BC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55D0C-CFC0-437F-9B5B-22477F2E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45AC0-DA09-45A5-960F-7F5858D8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3F829-0503-442F-93EC-F245DB42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FF593-F685-4F97-8C1C-2EDF9A63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98F13-790A-406E-8658-944EAEF2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69C49-8438-4C20-AF58-326E523F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469D9-D396-45AC-98F0-77D2FD6E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6D7CAF-114F-457B-8D39-4E2E42BC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B60302-B73E-4957-AA14-0682A8F6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CD69-739B-4B6A-B6EC-8064E71D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ADC61-451D-4AD2-BBC5-B1A2CB7D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CF508-DDA4-4EF1-AA2E-E44BB19D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B6F3D-6E26-4160-815E-2948F15E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DDB45-4ADE-4237-89BA-9B9B682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8C36E6-8743-4AA8-B7D4-F47D626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A00C68-E50F-4FE6-A108-5A3F207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B61F0-8ACB-433F-B0D6-04234138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9664C-1D7E-4AD7-9F5D-E13E90DC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6B999F-5C03-4C14-8ECA-5D56114D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A1EFC-66F1-4122-A2AA-DEDD499D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C4AD-921E-4FBE-83AD-833D288A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E47CA-BE34-4291-AC41-B0A59D50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29A2E-3428-4772-ABF9-524E592A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A3059-CB67-46DE-95F7-6F4852E3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92ACCB-B12A-44F3-87F6-7D87AB87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68068-B3E6-4B6A-B7F5-1C8E11D4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86A9CB-4F57-43A8-92A8-0D3F92E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59337-8B4E-4464-A3D6-EF0264CA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9B70D7-A528-45D2-B3F9-2822C9BE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6CAE6-DDD3-4D59-AE8E-63270605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0E93E-7ECA-4AEC-A1AC-426C34F4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F059-7506-426C-BFB0-66608F6D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2B612-6D24-4A99-9DB9-E0488A83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F341C6-28BA-4138-8A84-A9A192B7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AC32F5-27E4-4E2B-A4C9-E97B1855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B9AC2-B1C5-408A-8BD6-4287427E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9F82F-5D20-4DB2-832E-24A09713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7A0A4-FA8C-4D90-A501-B9E1322F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742FA2-053A-451E-988E-8230715A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09690C-403B-46E8-9819-571800CF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6D36A-577F-4487-A841-AFBC12E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68E929-8810-4E2C-A89C-07242E12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75358-746A-47C8-A1CC-1A8926E1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9813F2-B849-449C-9981-BAE989C4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5A256-7B0A-4F9D-A396-5147DFD2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B21314-947A-46F7-9554-34675CA2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931920-32EB-4A63-AF9A-D00DDD12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317BC0-32C5-4339-9F8D-A6871D27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74E885-473F-4454-8029-9D5716F1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283922-1CA2-42AC-90AD-0BF11960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FCE847-B735-4503-9C50-FE3DA09A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A0680C-1FE0-4880-B48D-492AE396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553A96-EE78-4DAE-9DDC-5EF52F2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41E9F-CC93-41AD-A53C-13192203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66C32D-7BE6-4541-8D99-AB9ED995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3E5D39-3BD0-4FF8-9A97-712E53AB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A684A7-D813-4007-ACF9-C644D953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A8AD6E-290A-4561-85A2-A5470C63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7F84DD-739F-42CD-BB23-0279BE13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A05F6A-F7C1-4493-B778-7B6B46A6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59388B-F269-4185-8C13-FD8D54AB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1A2A90-B431-408E-855E-58F8A75E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0A83B2-021E-4FC6-B413-67718DF3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FC2D35-9F33-4D66-8625-D24BF64A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FB15-5D56-41F5-B3B6-6FD99980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00EEB2-4F4D-49BF-8092-0EE32C06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FF44B0-00BA-408F-BD2F-9CF3788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E7ED27-E299-4BAF-9654-D64489E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AAD4C7-7710-460F-900C-6B093849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A6C55-C591-4059-8A0C-E697656B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ADBAFB-7F7E-4390-8F77-6AD5FF46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7CB0D-CD88-4644-8DFA-096412AD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B57B5-FF3E-498E-89B8-A92E468D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CD75-519A-4848-AE9A-74C85D01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CD8-F437-4DE0-B7AA-6275F423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6FAC-32BD-4053-935C-CF737169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9174-FE1F-41DC-BA14-4B1BC67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08E8-C823-416A-9BB9-467A7D50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609A-0C1D-4A33-9927-56455AB5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6770-4581-437E-A7E7-5DC21363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43BE-9925-4041-9E93-F6BA4AF5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A19D-585A-43F7-9655-954B0449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9649-52A2-4BBF-AEEB-AB6D5FF6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F082-C4EA-4C1B-884A-A73C3DEB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E0E77-1381-49C4-9C4A-2D226918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9E2-450D-4EF4-8B8B-F3083EAE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D7B0-3AD9-4244-8395-5035D13D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AFA48-336F-47EA-ACE2-CC952B17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CE9C-35CE-43A7-BF84-FF5984DB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03FCC-E721-44C1-8F5A-E9501AF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8AA9-F3F7-4C74-B12A-4343D67A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F90A0-3F40-4B7A-86E8-D3A58FFB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28B5D-C2BA-4649-A794-2E627813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375A8-AEC4-4FCA-A329-7BD7BCC8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196F-D4A3-4C25-8C07-B3C53004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2F74-8A89-4FBF-B2F5-5A75BEF3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EA0-074C-45F5-B6A8-47C5E878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0BA6A-3C79-42BD-A596-5A9E1D0E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1E3E-CF03-4D96-9EAD-A897FEBF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AC7AD-1FED-4EB0-AC72-B28DFFD1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67629-371C-4585-B442-80FDBAFD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38014-2D64-4A7D-8455-95C6DB7B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87543-048B-46E0-8756-1529CB5A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BB916-9250-4FD6-A529-68EFECF1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943DC-BC7F-417C-85FD-C2BA8468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BE00-C8BD-422B-89F1-1C7F5C9E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EB33A-4C0D-4E08-8F88-024C8D91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7D5-62A8-49F6-91CE-F7F1932A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BA829-7226-4447-9439-022511F4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C1C39-EFF3-4745-8F95-4F990FF5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B9686-3E6E-4E1B-876C-38DE3820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DD47E-3A94-40CD-970A-2D7DD82D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2D2FE-3C0D-4D03-9619-A0143E8D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96F2F-916E-45D3-B875-FF0A55F7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A2F7A-CBD8-46C7-A036-86E050BD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A8075-71DB-4D89-B83B-1F1AB3EC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B92BD-F1D4-4585-8229-A8B4EFD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01B71-64C4-4464-B058-17A6E65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757-7E1C-422F-B27A-4BB00A8A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8ABA8-9A4A-4D19-9295-FCFBF0C1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36D9C-5445-4B27-B100-67769954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649B9-0907-4C62-A265-F6A1E751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22A6-2248-4E7F-AC65-62B7BBD8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3D4D3-DEE3-4867-920E-838D57DD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96ECD-4CB9-49F7-B314-F5D1019A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16261-FF8F-4C7F-8864-47F8E46B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3EC4-3A59-4935-9D63-CB3D123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28935-1E83-469B-BA6B-BFB56375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3B454-2828-421F-84ED-9E72770C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36E-8413-458A-A78C-B2D9E210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4B82B-2971-4A5B-905C-7AED1F8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1E738-5C99-44A6-9AC1-2FA374F7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DA7DC-1DD6-4195-ADF7-32E9D110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CAD70-4FCF-4E38-8C1C-FB262DF6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35CDE-82D1-4D66-B3DC-F14040D4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2D628-F3FA-4F91-A2B4-9F54ADF0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B8218-07C4-4053-A679-E100DB62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63D0A-9FA8-4D56-A199-FAF38443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FFA20-6F00-4C86-9937-9E1FF733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7022C-637B-48E9-939F-959EDAC0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D45-9424-4749-86DE-DC2AAD16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D90FD-381E-4FAC-A828-FDF4E59B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DFB88-0F53-4182-B373-9002CFC7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34AF4-C0F9-4208-ABBB-758C95D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6AE0F-AF55-429A-98E6-0DF96244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9FBBC-116F-4BBA-A8BF-CEDCC2E0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14019-B530-4C93-AF8C-C3CD76FF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728EE-0483-44D2-AD72-C2021B18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892B1-5F0B-4D2F-8E48-9D3A2D23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23B49-0FE6-47B2-9458-1AAF4003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C8752-D4EB-46B9-9FA5-11DA4D10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DE97-A1E5-49AD-8EF1-8BEFD1F12B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2744-3045-41C8-B673-541C4D110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FA32-B2FE-44E0-9F8B-7745A8242D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0345-D0A2-4A4D-890D-FA65515760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DCAB-0040-4837-A636-DAC9D5AE7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9E74-5961-4D9D-A76E-7B65407F80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087E-AF45-43B4-B69E-18061674A8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03C0-AF8E-4A87-A4F5-ED6E3233D3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3F98-5E46-479B-9656-E59BF682C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D0F9-0219-4423-95E0-AF445FD33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DB8D-718D-4252-9AC3-6CDFD74F89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6FD5-9B8A-4542-B9CA-C115CDCA1C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2056-64EF-4655-BD37-CC74DC67FF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636B-ECB4-4BB4-A65A-0CAFBC786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383E-F6B3-47E5-B8D4-7DC14CCA22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851D-6A0A-41C4-B86E-8CE6458196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F187-4DB7-4B99-9FE4-10CF307A87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269C-1146-43E2-865C-6DFDE31978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73B0-7B45-4AEF-B012-9B6FB9791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4152-42D6-4BF3-AE4A-405B1CB714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A829-6AA4-4B32-8C84-B51248E32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25DE-A627-4783-A767-AF995ECA9A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48D0-24D0-4322-8815-9BDF5CDB4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9E4C-48E4-41F1-A493-31CF6157D3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3643-632C-4FE7-892E-E9C64B8475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2B47-B15F-4EB3-B7AD-75CB54AE77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CC5F-897F-4DEC-AE9B-DFF9DF2ED0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922A-91D5-4CBD-A08B-FC4A79ED0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1AF2-73FE-46A4-8016-9655FA2958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56D2-B9F9-4278-A29B-61DB2B5F6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E39C-9E8A-4755-A766-D2F611DFC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E24-FB4D-48F5-B1FB-FEC86CBA94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DF83-55F9-4F4E-83B5-01CF08AF99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0A30-CD12-4973-BA33-7531BFB7A2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3211-9F29-4634-8FB2-CD381652B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1E03-4765-48C6-9DB9-97C25E244A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E25A-E508-4D30-BA56-FB42291C08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557F-0C76-497D-BD7B-555077C929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ECBE-BF2F-49E3-871B-51FEC882D8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BF0C-8753-4EDA-AF36-8AD27FC4C9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539-C7C6-49D9-A840-7FB403CC56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EF8A-57D6-40EF-A4E6-2DBCFBCED3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914560" y="2724120"/>
            <a:ext cx="3314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228600" y="781200"/>
            <a:ext cx="86868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52280" y="828720"/>
            <a:ext cx="8839440" cy="55515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165240" y="1413000"/>
            <a:ext cx="8893080" cy="4064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128520" y="1973160"/>
            <a:ext cx="8893080" cy="406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122400" y="2509920"/>
            <a:ext cx="8893080" cy="40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85680" y="3070080"/>
            <a:ext cx="889308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6"/>
          <a:stretch/>
        </p:blipFill>
        <p:spPr>
          <a:xfrm>
            <a:off x="250920" y="3632040"/>
            <a:ext cx="889308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7"/>
          <a:stretch/>
        </p:blipFill>
        <p:spPr>
          <a:xfrm>
            <a:off x="214200" y="4192560"/>
            <a:ext cx="889344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8"/>
          <a:stretch/>
        </p:blipFill>
        <p:spPr>
          <a:xfrm>
            <a:off x="208080" y="4729320"/>
            <a:ext cx="8893080" cy="4060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9"/>
          <a:stretch/>
        </p:blipFill>
        <p:spPr>
          <a:xfrm>
            <a:off x="171360" y="5289480"/>
            <a:ext cx="8893440" cy="40644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10"/>
          <a:stretch/>
        </p:blipFill>
        <p:spPr>
          <a:xfrm>
            <a:off x="0" y="5848200"/>
            <a:ext cx="8893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95120" y="1147680"/>
            <a:ext cx="87519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23920" y="2224080"/>
            <a:ext cx="8694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171360" y="900000"/>
            <a:ext cx="8801280" cy="58183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4427640" y="5545080"/>
            <a:ext cx="1800000" cy="4064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2627280" y="6194520"/>
            <a:ext cx="4032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233280" y="852480"/>
            <a:ext cx="8675640" cy="51530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900000" y="154296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4140360" y="1557360"/>
            <a:ext cx="143964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1979640" y="2205000"/>
            <a:ext cx="1440000" cy="4064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5"/>
          <a:stretch/>
        </p:blipFill>
        <p:spPr>
          <a:xfrm>
            <a:off x="1042920" y="3500280"/>
            <a:ext cx="144000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6"/>
          <a:stretch/>
        </p:blipFill>
        <p:spPr>
          <a:xfrm>
            <a:off x="6732720" y="4795920"/>
            <a:ext cx="216036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7"/>
          <a:stretch/>
        </p:blipFill>
        <p:spPr>
          <a:xfrm>
            <a:off x="250920" y="5445000"/>
            <a:ext cx="108108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8"/>
          <a:stretch/>
        </p:blipFill>
        <p:spPr>
          <a:xfrm>
            <a:off x="4140360" y="5445000"/>
            <a:ext cx="4752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209520" y="2119320"/>
            <a:ext cx="8724960" cy="26193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250920" y="2176560"/>
            <a:ext cx="792000" cy="4064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1692360" y="3457440"/>
            <a:ext cx="172728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8028000" y="3486240"/>
            <a:ext cx="93672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179280" y="4135320"/>
            <a:ext cx="1297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236520" y="717480"/>
            <a:ext cx="8761320" cy="3200400"/>
          </a:xfrm>
          <a:prstGeom prst="rect">
            <a:avLst/>
          </a:prstGeom>
          <a:ln w="0">
            <a:noFill/>
          </a:ln>
        </p:spPr>
      </p:pic>
      <p:pic>
        <p:nvPicPr>
          <p:cNvPr id="1126" name="图片 2" descr=""/>
          <p:cNvPicPr/>
          <p:nvPr/>
        </p:nvPicPr>
        <p:blipFill>
          <a:blip r:embed="rId2"/>
          <a:stretch/>
        </p:blipFill>
        <p:spPr>
          <a:xfrm>
            <a:off x="1033560" y="3781440"/>
            <a:ext cx="70768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961920" y="1014480"/>
            <a:ext cx="72201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76040" y="1204920"/>
            <a:ext cx="87901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51:4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